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F46-8845-442D-B83C-FC381DF5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64E-03A3-4586-8E34-1D8FBDF5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C44-6CF9-4598-A7E7-2A4B7C42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2F9-A87A-446C-A875-9C552155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034-CB84-4654-82C0-4C5D585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3D3-E2CD-4EF4-B255-4F9DCF0F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0CB-A741-4631-904C-0CF72FD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017-3747-4415-8CB4-2A80C55B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5F3-C81E-464A-A18B-2C9F8885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0DC-5BFC-4151-81CF-D0A0B0C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8A7-40CE-4D9B-9E16-9E9986C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2D7-B88A-4B5F-A1F3-D4C9BE8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1DEF-75D8-4F67-840D-9E63C27E8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it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easy for the Puritans to believe what was happening during the Salem Witch Trials was logical and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after the initial trials it became apparent to many that the justice system was being perverted for others’ 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Lorenzo%2520Lotto%2520-%2520St"/>
          <p:cNvPicPr/>
          <p:nvPr/>
        </p:nvPicPr>
        <p:blipFill>
          <a:blip r:embed="rId1"/>
          <a:stretch/>
        </p:blipFill>
        <p:spPr>
          <a:xfrm>
            <a:off x="762120" y="1676520"/>
            <a:ext cx="3651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ere the Puritan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oup who wanted to reform the Anglican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anted no separation from church an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uritan family"/>
          <p:cNvPicPr/>
          <p:nvPr/>
        </p:nvPicPr>
        <p:blipFill>
          <a:blip r:embed="rId1"/>
          <a:stretch/>
        </p:blipFill>
        <p:spPr>
          <a:xfrm>
            <a:off x="4648320" y="1523880"/>
            <a:ext cx="41148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ere the Purit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spiritual vision to build a "city upon a hill" as a sign for God’s will for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anted to create a “New Jerusale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the%20cross%20picture"/>
          <p:cNvPicPr/>
          <p:nvPr/>
        </p:nvPicPr>
        <p:blipFill>
          <a:blip r:embed="rId1"/>
          <a:stretch/>
        </p:blipFill>
        <p:spPr>
          <a:xfrm>
            <a:off x="457200" y="1600200"/>
            <a:ext cx="384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s with the Purit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d not believe in religious tole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not tolerate those who dis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mage Preview"/>
          <p:cNvPicPr/>
          <p:nvPr/>
        </p:nvPicPr>
        <p:blipFill>
          <a:blip r:embed="rId1"/>
          <a:stretch/>
        </p:blipFill>
        <p:spPr>
          <a:xfrm>
            <a:off x="4419720" y="17524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he Puritans Dealt with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ger Williams believed they stole the land from Indians – They banish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e Hutchinson believed that you could know God without the help of ministers or the Bible – They banished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not tolerate people who disagreed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fference between Puritans and Pilgr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Puritans" wanted to remain as part of the England, working for biblical reform from wit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y moved to New England, they affirmed their "Englishness" and saw the main purpose of their new colony as being that of a biblical witness, a "city on a hill" which would set an example of biblical righteousness in church and state for Old England and the entire world to s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trongly emphasized t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orpor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ghteousness of their entire community before G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fference between Puritans and Pilgr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Pilgrims" wanted to achieve church reform even if it meant separating from their church and their 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they continued to think of themselves as English, their emphasis was on their new political identity and spiritual 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eir passionate commitment to the necessity of reformation immediate and without compromise, they emphasized especially strongl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ndividua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ness before G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ke the Pilgrims, the Puritans did not make peace with the Native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very superstiti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ieved the Devil walked amo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ndians_desoto"/>
          <p:cNvPicPr/>
          <p:nvPr/>
        </p:nvPicPr>
        <p:blipFill>
          <a:blip r:embed="rId1"/>
          <a:stretch/>
        </p:blipFill>
        <p:spPr>
          <a:xfrm>
            <a:off x="4419720" y="1600200"/>
            <a:ext cx="4267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 Mather'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morable Providences, Relating to Witchcrafts and Possess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689), helped generate an unbalanced fascination with witchcraf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itans believed in witches and spir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witch"/>
          <p:cNvPicPr/>
          <p:nvPr/>
        </p:nvPicPr>
        <p:blipFill>
          <a:blip r:embed="rId1"/>
          <a:stretch/>
        </p:blipFill>
        <p:spPr>
          <a:xfrm>
            <a:off x="4724280" y="16002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1:11:43Z</dcterms:created>
  <dc:creator>Administrator</dc:creator>
  <dc:description/>
  <dc:language>en-US</dc:language>
  <cp:lastModifiedBy>Teacher</cp:lastModifiedBy>
  <dcterms:modified xsi:type="dcterms:W3CDTF">2009-09-21T00:39:17Z</dcterms:modified>
  <cp:revision>7</cp:revision>
  <dc:subject/>
  <dc:title>The Puritans</dc:title>
</cp:coreProperties>
</file>